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1A79-A5A0-4E05-BCDB-A53E0CDD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15A3-26A3-4F94-88C3-BFC3AD23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1A2E-D3ED-4838-BE99-A55BCD71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2D8B-687F-4D37-9212-CA6A3AA2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F9BA-B02F-4696-BB52-D3BC428E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B6D9-E5B3-45D5-957A-53333B06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CBE4-5313-4570-8EF0-7E251CA2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0356-F9B0-44B2-B76D-84AF2A07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664-01CD-495B-8CC9-3713EB54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22BF-80F3-493E-94B8-580091A5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C8D-9ED3-45E3-9AE1-A7ABDAA6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E61D-7B31-4F14-9BAB-C210938A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93D2-E141-4AF9-8FD0-BD1F23CAB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ロボコン九州大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0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運営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州大会実行委員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1DEB-0EF5-473D-A242-81E6A4B8AE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パクトな運営を目指す。負担が少な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場は、大学関係者の方々に依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運営は、今村さんからノウハウを教わる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事務局はＮＰＯ　ＱＵＥＳＴが主に担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費用は、ＮＰＯ　ＱＵＥＳＴに支払う。そこ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アルバイト代など支払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副運営委員長をつく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543D-F17F-423C-B617-06BA65CB74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スケジュ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時期：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九州地区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＝＞　この日以外は困難（会場都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場所：　　九州産業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チーム数２２チーム　３月２９日現在）４月６日締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予定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試走会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センタ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試走会（九州産業大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3168-A9D2-41EA-8739-6126874676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実行委員会組織（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顧問：吉田市長　牛島先生、　松尾会長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委員長：福田先生（九大）　副：芦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技術委員長：有森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（＝＞技術説明会　中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技術：甘田（ｺｱ）、赤山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T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小田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委員長：岩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N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：中西（九大）、久住（九大）、北須賀（熊大）、片山（宮大）、梶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鳥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性能審査：松下（コア）、片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運営委員長：　　今村さん＝＞　本部との連絡：芦原　＝＞　澤田先生、木下さん、　副運営委員長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対外折衝：芦原　　　＝＞　　澤田先生、木下さん　、副運営委員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実行委員間調整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全体管理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運営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三宅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、中嶋（東海大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富松（電盛社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木下（沖通信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椛島（安川情報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澤田（九産大）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藤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川津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局長：山下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事務局　原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瓜生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ST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アルバイト、犬塚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カタログ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ティーシャツ：会場手配：本戦のときは澤田先生　会場設営指示：台本作成：　流用　参加者やり取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ボランティア：・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95A1-6808-4938-91F3-AD2476144F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運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催時期の決定：９月４日、５日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明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判断（澤田先生連絡によ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委員長の選定（今村さんからの引継ぎ）、実行委員会構成の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事務局の強化、犬塚さ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イシンコムクルーズの　近藤さんを実行委員会へ＝＞様子見（ボランティア、当日きてくださ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旅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円振り込みあり、その使用方法について合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　連絡会議　出席者　　＝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まで芦原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各担当から、福田、芦原、山下、岩崎・中西、甘田、有森（講師をする人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（福田、岩崎、中西、山下、甘田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審査合宿の予約　　＝＞　事務局に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福岡市への後援依頼　＝＞　本部　羽根田さんが手続き　＝＞完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承諾書＝＞連絡会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東京に持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4F8-E266-409C-9129-468911E89C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技術教育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追加技術説明会（ＤＳＬ、コード評価）、追加試走会開催の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モデル教育など　＝＞　　ＬＳＩカレッジ、ＱＵＥＳＴ教育の紹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前教育自前化（本部からでな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＝＞マニュアル通りの教育はできる。アドバイザで本部から呼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ロボコン用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購入（測定用）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ホームページ作成　＝＞九産大に依頼？　明日確認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参加者写真掲載、承諾書必要。　大学（九大）にお願い、服部さん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ビデオとり：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メーリングリスト（今村さん管理から変更）　＝＞　すこしそのま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会準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司会の準備　＝＞　昨年度の南さん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コース土台（大分県で製作予定あり、１０万円）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インターネット中継（九産大の下川先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財産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度）ＭＣＣにあるものの整理：　ＬＳＩセンターを倉庫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20C-0812-4843-A401-BBFA1D7429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預金残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実行委員会（入金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に本部より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入金予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運用口座に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（運用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3,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　＋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で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チャンピョンシップ大会への旅費補助に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9116-AC50-4598-9F75-19D95018F5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09:54Z</dcterms:created>
  <dc:creator>nal</dc:creator>
  <dc:description/>
  <dc:language>en-US</dc:language>
  <cp:lastModifiedBy>芦原秀一</cp:lastModifiedBy>
  <dcterms:modified xsi:type="dcterms:W3CDTF">2010-03-30T00:43:17Z</dcterms:modified>
  <cp:revision>5</cp:revision>
  <dc:subject/>
  <dc:title>ETロボコン九州大会2010 運営方針</dc:title>
</cp:coreProperties>
</file>